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876-A07E-4A40-8FAC-9823A880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044-5985-4BA4-9A06-C835FA7E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88F-C315-48A4-9994-0B58E60B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5EB-A467-4F8D-B7C9-246D76B9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87A-7E49-4349-9721-CADDB0B0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709-5D7E-442C-95BE-AB51481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33B-F792-4C40-AAB9-ECE39B92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257-62B3-4D67-9716-2164716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47E-2A4E-450F-BC7F-534B02D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F68-B455-4C51-A7AE-278C761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9D7-38C6-4E11-BE99-27096B3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41C-A0B1-4A95-8D94-B03C017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CA3A-1772-4B6C-9835-F6727058A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22cvjsssRhap_ph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33520"/>
            <a:ext cx="8534520" cy="81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مهيّا                                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غارة                                     شمس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                                     نورن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ملي                                    وملي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ارة                                     حر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560" descr=""/>
          <p:cNvPicPr/>
          <p:nvPr/>
        </p:nvPicPr>
        <p:blipFill>
          <a:blip r:embed="rId1"/>
          <a:stretch/>
        </p:blipFill>
        <p:spPr>
          <a:xfrm>
            <a:off x="-304920" y="0"/>
            <a:ext cx="66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1143000"/>
            <a:ext cx="25146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ضلك طل عليي   لا تكون عني ب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حة وجودك فيي  مثل ليالي الع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7098384zGTmZv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1600200"/>
            <a:ext cx="335268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يامي حلّيها     وضوي هالعتم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فافي روّيها  من أصفى البس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457200"/>
            <a:ext cx="175248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قياس المحبة   نحب بلا 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ليني يا ربي    مثلك حب الناس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0:15:08Z</dcterms:created>
  <dc:creator>SUZANNE.MD</dc:creator>
  <dc:description/>
  <dc:language>en-US</dc:language>
  <cp:lastModifiedBy>SUZANNE.MD</cp:lastModifiedBy>
  <dcterms:modified xsi:type="dcterms:W3CDTF">2002-12-09T06:29:49Z</dcterms:modified>
  <cp:revision>2</cp:revision>
  <dc:subject/>
  <dc:title>PowerPoint Presentation</dc:title>
</cp:coreProperties>
</file>